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6D0-DF76-407F-B664-66435049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0D0-0235-4B85-B35B-F9B14742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70B-4FB7-45BC-81DA-0555201D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713-AF9E-4334-A3DB-93634D4E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373-CCBA-4796-8FE2-AD342B2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FB9-0C5A-4DF1-AA2B-AAD0E4B0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9DE-6E9C-4F2A-8BFB-20899D29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5A3-90B2-4F4A-BE9B-45AC9F1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658-7304-4EBE-9653-93785F7F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E9B-6708-4D38-89FF-9146339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AB1-A1E3-42AD-AE58-C894667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09D-C0BB-4C7C-BFBA-04DA840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E623-04B0-417E-9622-5FF90CE1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query.html" TargetMode="External"/><Relationship Id="rId3" Type="http://schemas.openxmlformats.org/officeDocument/2006/relationships/hyperlink" Target="http://web.mit.edu/invent/iow/query.html" TargetMode="External"/><Relationship Id="rId4" Type="http://schemas.openxmlformats.org/officeDocument/2006/relationships/hyperlink" Target="http://www.foodandthings.com/wp-content/uploads/2009/05/marshmallow-fluff-entert0406-de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c9c9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January, 7</a:t>
            </a:r>
            <a:r>
              <a:rPr b="0" lang="en-US" sz="1800" spc="-1" strike="noStrike" baseline="30000">
                <a:solidFill>
                  <a:srgbClr val="3366ff"/>
                </a:solidFill>
                <a:latin typeface="Kristen ITC"/>
              </a:rPr>
              <a:t>th</a:t>
            </a: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 ,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Kristen ITC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19940400">
            <a:off x="533520" y="228240"/>
            <a:ext cx="6933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4adea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Kristen ITC"/>
              </a:rPr>
              <a:t>Marshmallow Flu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4adea"/>
                  </a:gs>
                  <a:gs pos="100000">
                    <a:srgbClr val="ffffff"/>
                  </a:gs>
                </a:gsLst>
                <a:lin ang="13500000"/>
              </a:gradFill>
              <a:latin typeface="Kristen ITC"/>
              <a:ea typeface="Kristen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76720" cy="306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ff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query"/>
          <p:cNvPicPr/>
          <p:nvPr/>
        </p:nvPicPr>
        <p:blipFill>
          <a:blip r:embed="rId1"/>
          <a:srcRect l="8892" t="36057" r="55559" b="17909"/>
          <a:stretch/>
        </p:blipFill>
        <p:spPr>
          <a:xfrm>
            <a:off x="6248520" y="0"/>
            <a:ext cx="2895480" cy="176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52280"/>
            <a:ext cx="5943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2dc"/>
                </a:solidFill>
                <a:latin typeface="Arial"/>
              </a:rPr>
              <a:t>Lemelsons MIT Program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Arial"/>
              </a:rPr>
              <a:t>Marshmallow Fluf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d600"/>
                </a:solidFill>
                <a:latin typeface="Arial"/>
              </a:rPr>
              <a:t>January 11,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eb.mit.edu/invent/iow/que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2dc"/>
                </a:solidFill>
                <a:latin typeface="Arial"/>
              </a:rPr>
              <a:t>Food and Thing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Arial"/>
              </a:rPr>
              <a:t>Marshmallow Fluf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d600"/>
                </a:solidFill>
                <a:latin typeface="Arial"/>
              </a:rPr>
              <a:t>January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foodandthings.com/wp-content/uploads/2009/05/marshmallow-fluff-entert0406-d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828800" y="2286000"/>
            <a:ext cx="3692520" cy="40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54380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Kristen ITC"/>
              </a:rPr>
              <a:t>Invention: Marshmallow Fl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a22d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a22dc"/>
                </a:solidFill>
                <a:latin typeface="Kristen ITC"/>
              </a:rPr>
              <a:t>Made in the 1917’s it is made of corn syrup, sugar, dried egg whites, vanill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Kristen ITC"/>
              </a:rPr>
              <a:t>A sandwich they made is called the Fluffernu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d6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d600"/>
                </a:solidFill>
                <a:latin typeface="Kristen ITC"/>
              </a:rPr>
              <a:t>It’s made with white bread, peanut butter, and Marshmallow Flu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Kristen ITC"/>
              </a:rPr>
              <a:t>Made by Archibald Query as a marshmallow cr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t is a gooey sugary substances that in the 1900 was used to dress up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9d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Kristen ITC"/>
              </a:rPr>
              <a:t>Inventor: Archibald Qu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22d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22dc"/>
                </a:solidFill>
                <a:latin typeface="Kristen ITC"/>
              </a:rPr>
              <a:t>Query, a resident of Somerville Mass., developed a recipe for marshmallow crème in his  own kit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Kristen ITC"/>
              </a:rPr>
              <a:t>He began to sell it door to door with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6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600"/>
                </a:solidFill>
                <a:latin typeface="Kristen ITC"/>
              </a:rPr>
              <a:t>He sold his recipe for $500 to Allen Durkee and Fred Mower and they made it themse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Kristen ITC"/>
              </a:rPr>
              <a:t>It went to a show called Fluffnuter which lasted 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ey then made a sandwich called the Fluffern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9:56Z</dcterms:created>
  <dc:creator>install</dc:creator>
  <dc:description/>
  <dc:language>en-US</dc:language>
  <cp:lastModifiedBy>install</cp:lastModifiedBy>
  <dcterms:modified xsi:type="dcterms:W3CDTF">2011-01-14T17:10:00Z</dcterms:modified>
  <cp:revision>8</cp:revision>
  <dc:subject/>
  <dc:title>Slide 1</dc:title>
</cp:coreProperties>
</file>